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5ED2F-548F-4C04-94D3-BFA7A5481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50880" y="563796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AB734-2B3E-4ED9-88D3-A8F50BE11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64740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AA7B1-4408-40C2-85A9-1E41F4F9E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0764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56476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5088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60764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56476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7D93E-D730-4B10-A66B-C3C5BD62E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FFA41-58DE-47CD-87A8-DCD0D9CBB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7D5B3-7E20-460C-8506-8C56BE302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264FD-16D7-4395-8D82-C537389C7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151BC-F456-47D2-B6A5-3BDED31C8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50880" y="390240"/>
            <a:ext cx="11702880" cy="75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D44E0-F40E-45A3-B4B1-0A05A69D3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E86B3-7644-4EC7-A768-4514B2CF6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64740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313C5-091C-4B02-A8C8-EA4D87D8D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D3328-F2C8-4AC6-B4EC-3672E4F8E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0520" y="8881560"/>
            <a:ext cx="303372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443120" y="8881560"/>
            <a:ext cx="411804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319680" y="8881560"/>
            <a:ext cx="303372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ECBDA-F2FE-42EE-909D-EE17D36F88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6T18:19:41Z</dcterms:created>
  <dc:creator>abeason</dc:creator>
  <dc:description/>
  <dc:language>en-US</dc:language>
  <cp:lastModifiedBy>abeason</cp:lastModifiedBy>
  <dcterms:modified xsi:type="dcterms:W3CDTF">2009-04-06T18:19:45Z</dcterms:modified>
  <cp:revision>1</cp:revision>
  <dc:subject/>
  <dc:title>Slide 1</dc:title>
</cp:coreProperties>
</file>